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504A-DD14-4065-9C98-153D0BAE2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F325-3EAE-4186-B1E4-89838654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3805-DE1F-4AF5-83AD-A719B9ACE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ECBC-28A9-490F-B493-7E244B8F7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4D6D-2BF6-4B9A-849D-5FBBFC72C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7D7B-0670-49C2-805C-98BB55E3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BB66-55BB-4756-BD42-41A35710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C8B1-99F0-489B-BAD3-8D86B2B4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097F-99F7-4781-9EE3-65C46FCC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D052-D46E-4484-98AA-372150F3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0B4C-CA6C-4911-9D3E-760AE684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A736-892C-4B64-9198-BCAC3338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D377-BF10-4D55-A86B-6365137B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2A25-EA0B-4B3A-A45A-70247FF9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0ACB-C58A-4F04-8472-D33EE411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B572-AD28-42B3-BAE6-276939142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F45B-2398-4E9F-885C-F946DCFC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39AF-32AB-448A-B9AF-AA27F5D2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BC44-D95F-462A-8417-B03BDF5E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CD7C-17FD-4019-8A7C-52AFF515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F20B-7E96-4459-BE80-4EBE2443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FDC5-C04E-400D-9E82-69FD34C6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45C9-1509-4638-B7B1-ECB7F4CE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9757-E1D0-41B9-969F-5DAADD37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9FF8-E8C8-4013-8158-BA2620B21F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8E12-FDFB-4B2A-B438-875C37A2FE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270160"/>
            <a:ext cx="7467480" cy="100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ffff"/>
                </a:solidFill>
                <a:latin typeface="Tahoma"/>
              </a:rPr>
              <a:t>Cell Membrane</a:t>
            </a:r>
            <a:endParaRPr b="0" lang="en-US" sz="6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ecff"/>
                </a:solidFill>
                <a:latin typeface="Tahoma"/>
              </a:rPr>
              <a:t>Page 182</a:t>
            </a:r>
            <a:endParaRPr b="0" lang="en-US" sz="45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Tahoma"/>
                <a:ea typeface="Times New Roman"/>
              </a:rPr>
              <a:t>Water and the </a:t>
            </a:r>
            <a:br>
              <a:rPr sz="5000"/>
            </a:br>
            <a:r>
              <a:rPr b="1" lang="en-US" sz="5000" spc="-1" strike="noStrike">
                <a:solidFill>
                  <a:srgbClr val="ccffff"/>
                </a:solidFill>
                <a:latin typeface="Tahoma"/>
                <a:ea typeface="Times New Roman"/>
              </a:rPr>
              <a:t>Cell Membrane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Polar molecules (like water) are repelled by nonpolar molecules (like the cell membrane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Tahoma"/>
                <a:ea typeface="Times New Roman"/>
              </a:rPr>
              <a:t>Water and the </a:t>
            </a:r>
            <a:br>
              <a:rPr sz="5000"/>
            </a:br>
            <a:r>
              <a:rPr b="1" lang="en-US" sz="5000" spc="-1" strike="noStrike">
                <a:solidFill>
                  <a:srgbClr val="ccffff"/>
                </a:solidFill>
                <a:latin typeface="Tahoma"/>
                <a:ea typeface="Times New Roman"/>
              </a:rPr>
              <a:t>Cell Membrane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The cell membrane is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selectively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 permeable        (aka semi-permeable) meaning it only allows certain molecules into or out of the cel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343400" y="60948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ann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CellMembrane" descr=""/>
          <p:cNvPicPr/>
          <p:nvPr/>
        </p:nvPicPr>
        <p:blipFill>
          <a:blip r:embed="rId2"/>
          <a:stretch/>
        </p:blipFill>
        <p:spPr>
          <a:xfrm>
            <a:off x="0" y="1525680"/>
            <a:ext cx="7991640" cy="5332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 flipV="1">
            <a:off x="1546200" y="1144440"/>
            <a:ext cx="344520" cy="1905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383000" y="1144080"/>
            <a:ext cx="687600" cy="1809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014880" y="1335240"/>
            <a:ext cx="1289160" cy="209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91520" y="4267080"/>
            <a:ext cx="515880" cy="1714680"/>
          </a:xfrm>
          <a:custGeom>
            <a:avLst/>
            <a:gdLst>
              <a:gd name="textAreaLeft" fmla="*/ 0 w 515880"/>
              <a:gd name="textAreaRight" fmla="*/ 186120 w 515880"/>
              <a:gd name="textAreaTop" fmla="*/ 44640 h 1714680"/>
              <a:gd name="textAreaBottom" fmla="*/ 167004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Tahoma"/>
              </a:rPr>
              <a:t>Channel Protein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act as passageways through which only certain molecules can pass into or out of the cel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43000" y="53352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rk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CellMembrane" descr=""/>
          <p:cNvPicPr/>
          <p:nvPr/>
        </p:nvPicPr>
        <p:blipFill>
          <a:blip r:embed="rId2"/>
          <a:stretch/>
        </p:blipFill>
        <p:spPr>
          <a:xfrm>
            <a:off x="0" y="1525680"/>
            <a:ext cx="7991640" cy="5332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flipV="1">
            <a:off x="1546200" y="1144440"/>
            <a:ext cx="344520" cy="1905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383000" y="1144080"/>
            <a:ext cx="687600" cy="1809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6014880" y="1335240"/>
            <a:ext cx="1289160" cy="209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91520" y="4267080"/>
            <a:ext cx="515880" cy="1714680"/>
          </a:xfrm>
          <a:custGeom>
            <a:avLst/>
            <a:gdLst>
              <a:gd name="textAreaLeft" fmla="*/ 0 w 515880"/>
              <a:gd name="textAreaRight" fmla="*/ 186120 w 515880"/>
              <a:gd name="textAreaTop" fmla="*/ 44640 h 1714680"/>
              <a:gd name="textAreaBottom" fmla="*/ 167004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Tahoma"/>
                <a:ea typeface="Times New Roman"/>
              </a:rPr>
              <a:t>Marker Protein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the “name tags” of cells, giving each an identity; allows your body to distinguish your cells from invading cell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324480" y="6094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cept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CellMembrane" descr=""/>
          <p:cNvPicPr/>
          <p:nvPr/>
        </p:nvPicPr>
        <p:blipFill>
          <a:blip r:embed="rId2"/>
          <a:stretch/>
        </p:blipFill>
        <p:spPr>
          <a:xfrm>
            <a:off x="0" y="1525680"/>
            <a:ext cx="7991640" cy="5332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V="1">
            <a:off x="1546200" y="1144440"/>
            <a:ext cx="344520" cy="1905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383000" y="1144080"/>
            <a:ext cx="687600" cy="1809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014880" y="1335240"/>
            <a:ext cx="1289160" cy="209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267080"/>
            <a:ext cx="515880" cy="1714680"/>
          </a:xfrm>
          <a:custGeom>
            <a:avLst/>
            <a:gdLst>
              <a:gd name="textAreaLeft" fmla="*/ 0 w 515880"/>
              <a:gd name="textAreaRight" fmla="*/ 186120 w 515880"/>
              <a:gd name="textAreaTop" fmla="*/ 44640 h 1714680"/>
              <a:gd name="textAreaBottom" fmla="*/ 167004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Tahoma"/>
                <a:ea typeface="Times New Roman"/>
              </a:rPr>
              <a:t>Receptor Protein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receives information from the external environment and sends that info. into the cel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CellMembrane" descr=""/>
          <p:cNvPicPr/>
          <p:nvPr/>
        </p:nvPicPr>
        <p:blipFill>
          <a:blip r:embed="rId2"/>
          <a:stretch/>
        </p:blipFill>
        <p:spPr>
          <a:xfrm>
            <a:off x="0" y="1895400"/>
            <a:ext cx="6902280" cy="4124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V="1">
            <a:off x="1335240" y="1600200"/>
            <a:ext cx="298440" cy="1473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786120" y="1599840"/>
            <a:ext cx="592200" cy="14000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194440" y="1747800"/>
            <a:ext cx="1114200" cy="1620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83160" y="4016520"/>
            <a:ext cx="446400" cy="1325520"/>
          </a:xfrm>
          <a:custGeom>
            <a:avLst/>
            <a:gdLst>
              <a:gd name="textAreaLeft" fmla="*/ 0 w 446400"/>
              <a:gd name="textAreaRight" fmla="*/ 161280 w 446400"/>
              <a:gd name="textAreaTop" fmla="*/ 34560 h 1325520"/>
              <a:gd name="textAreaBottom" fmla="*/ 1290960 h 132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3657600"/>
            <a:ext cx="22096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hospho-lipid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ilay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Tahoma"/>
                <a:ea typeface="Times New Roman"/>
              </a:rPr>
              <a:t>Phospholipid Bilayer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the special type of lipid that makes up the cell membrane; the cell membrane is made of 2 layer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8T18:41:46Z</dcterms:created>
  <dc:creator>Robert Burke</dc:creator>
  <dc:description/>
  <dc:language>en-US</dc:language>
  <cp:lastModifiedBy>Plano ISD</cp:lastModifiedBy>
  <dcterms:modified xsi:type="dcterms:W3CDTF">2004-09-22T16:35:07Z</dcterms:modified>
  <cp:revision>25</cp:revision>
  <dc:subject/>
  <dc:title>Cell Membrane  &amp;</dc:title>
</cp:coreProperties>
</file>